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FFF-26B4-4F59-BD08-208FD53E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FDB-D109-4BC5-897D-4E9FBB12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BB24A-D747-4888-82A7-B63909C2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1E624-2E75-4D85-BB86-B7840126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89CAC-99C1-4965-8067-163EFF89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D8762-1D1E-407C-B350-AB758363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BBD70-F558-469B-9EAB-92751255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9C74D-D2EC-4012-ABAE-A0999BF4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72CA0-10C6-45FF-8CEF-346F5913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05631-2E17-466C-B3D4-40BC9692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3D533-DB5C-4A31-A0C4-0C90036E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21708-07CC-4D1E-B4C5-D3DD0AFA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D18-CDFD-4603-BEB9-CE8C6DB0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43D36-F7EC-4568-BF31-D7A719AA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A8041-F209-44A2-A250-F6C82446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9855C-13DF-4AAA-B314-6135EC53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7710B-1B82-4B58-BFDA-DC1D4DFB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84671-B2F4-448D-AD2C-D802DA4E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C70A4-25D3-498B-8C97-FC8F7F7E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D2242-B732-4921-8DB9-37EDEC36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ED3BD-BD12-4DCE-9A9A-1BF893D1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3402A-3298-4A51-8FC6-701B25A9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5C3F5-7219-47D6-8B1A-A0E946DF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1DC-3285-41AE-8894-8FACED37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D16F4-6766-41B0-9516-7CD487CB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F4B27-CBF7-4BC9-B3CB-190EE2CC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FB4AF-4CDC-4DD8-9A83-9E0AD7AE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4699D-7756-4835-A452-AFF60987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04FA7-F74F-4FE1-B1EA-8922D40B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E6B50-9CD5-4E3E-9937-0DD699B2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2DE74-2245-4275-9A09-E1325FEA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20575-3C07-4FB2-9E57-E8BE9004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BAD9B-EA99-424F-9C16-5F077E02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6F4AF-DE78-4375-82D2-9D5028EF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243E-CAA1-4F79-9E13-000DFB87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E8025-E6EA-40B6-AFF6-A1286DED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F7499-2692-4BBA-9027-ECBF5571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A3E46-58C5-4DEB-9C73-809052F8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59301-94D9-4705-AF74-3D50DFC8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8603F-0DA2-458B-925A-4E4B7B48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B2EB9-AD81-4007-928F-B1B5C450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5A607-D0EE-4551-8843-51EDAE72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502F1-C2F0-4C86-BC17-B2239E65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A1DB0-5F19-4986-B2B3-B4605543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B5524-47C8-4C9E-9CA7-3AB5075C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4B99-CED4-435A-AD0F-217C981E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24A9A-4EE9-440C-A78C-A0C191AD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18B6A-E2CB-4C14-9F75-40CC2CAD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108C2-5776-46EA-870C-F89689A6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DF127-1EAD-449F-BAA1-0C27EFD2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C3998-645E-4923-9685-739D2444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3CFBB-C9E3-446B-BCA0-CDF0609A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44052-8A83-48EF-84A5-FA5A76AB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FD1E1-256C-452D-B1A2-21754D74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C3E9C-CF5B-4722-AC6B-BEBF8C1F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55753-E21A-44AD-9952-65D7F663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D6E3-8C62-46E9-BBA1-958B77A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CB998-BC8E-4712-BAD3-7B9F45CE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85E4F-96A1-4A22-B6ED-665A1EA9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979F9-2FD8-4E18-8E10-C28B2DA9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62263-86C0-4913-A6F4-67135035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77684-00B7-42E5-B574-C15B4BC0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F7FCB-9102-4EE6-BE7D-950DB038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BB1AB-77C8-41BC-9E32-CE3A6F73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2C3D1-7D48-480C-BD70-C3F3A110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FD9F4-E984-4640-B8E8-0893BC62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DC177-BC0B-4120-B36C-16AC5355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70FC-5830-4EBD-A284-115A332F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E8AA0-844D-4F72-A357-D0DEEAD3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6FF54-C6DC-46E5-9F61-8EBBCB0C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B4BB0-3E32-485A-9063-08648759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5A45C-6DCC-4F47-A971-10FA9070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94EFE-8E35-4084-A8FF-1980B61F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924F9-DC66-43CD-ADB0-82481B4B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FFB63-2688-464A-809B-8DD36181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29D51-D7EB-46FE-B599-680524E3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F8EA9-01F6-4BC2-ABF7-C478CF66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1DEB8-A469-425C-8FB9-11493A2F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8774-8A28-4804-8E6C-8927CB7D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C0699-3917-4AC5-885C-1F6F5055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A5E2F-66A3-44A9-A0DC-6DC578C9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456CC0-B3AE-4722-879A-CB6A1C9E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4CA5B-B303-43E8-8304-B2708A2A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CDDD0-AA2B-4065-A16F-1800DDFE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1A8A4-AEE4-481E-8C90-DDC18124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AE9D9-1DE2-41A6-922B-D88412F7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B61D9-7600-4148-B4AB-132984C6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1A88F-9261-4327-9A91-3CB3720A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0877BD-5F9C-4ADF-9160-B95EC90E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3017-7217-4154-BE98-667F4066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DE0158-3299-458F-9F50-AC0C85CD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24CA1-ABD2-43F1-902C-4B69DBDE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BC29FC-586B-416F-9613-C7AE3D49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7CD9E-CB74-4E23-BFD2-C9ADCA61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57A27-B3BC-4824-AAAC-5A0C6DA6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AA940D-E82B-486F-ACA1-F85235ED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E0EE1-FBCB-42FD-AE15-3BFCD629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CE6A4-3BCD-4BBD-93C3-AF4FA6D7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1745C-D2BD-4FCC-9A09-CE4FDE20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F5670-7D32-4ACE-9394-1CAC32DF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CF57-54B7-4FF9-9236-CB64736E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57965-0796-4486-8CF5-18594424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07A46C-735E-47DB-A1CE-429FDA98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7DBE7-86E1-4518-968E-3BE744B7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180282-100E-4730-B6CA-18A74054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14B168-A048-4A51-81BE-A57B199A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227052-67F2-4D38-95AE-793309CB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5AAF9-3FC0-4AA6-AB5D-BD2BA1BA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5A96E-9B63-4870-AD62-C9FDD168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9889E-A912-47BC-932A-76CD4FD9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2BAD6D-C003-49FC-981A-A589564B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E95-836B-45CA-B79C-9EC47204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5377-C06E-469F-850F-F9115B48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C64E3-D2D9-477C-9BAD-4E5D7F53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010CF-2FAB-48F4-A6F7-B928C5DE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C40AA-9DFC-45CB-8F90-9E89B97E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D29E55-4799-46C5-8D41-1239B491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9F896-0C61-43BD-AD4F-0E4F4EE9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BE033-A230-480B-99A7-0B2F1EBD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F34FE3-C150-4155-8C31-8664F2C9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457E7-FD4A-441F-BC6D-FA52D0AB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A4800-AD23-4B5C-90C2-2FB7ED50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783159-C538-4213-97C6-E75B6A83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47A7-4F53-434C-A77C-0494ED36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010EC3-E09B-40FF-8392-AC492003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9E1A3-D289-4464-8175-2FF7BF4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04AC4D-C05E-4432-8CE1-0464DDCE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3AFA16-93C9-4B81-BF8C-3D2B3AD4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A5E11-C554-4CCB-ADDC-848C8FAA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4CCF85-6470-40D2-AD2C-FA7EC133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7E653-C04D-46CD-BD81-C93D73B0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A9F29-5C9D-40EF-B224-20A39EB8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85BE98-7633-4103-8B92-E3D085F2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6D46F3-741F-4D99-8CAE-90D46AD4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3605-12FD-425F-AE85-E7500C3F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7CBE9-82FF-4B90-BEEC-A6E7F69F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2E8C6-5BFD-4B4E-B526-B781E364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48C98-1BD3-4C0F-B721-7FF23843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82F45-2571-461E-8EF1-FCA05466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839798-4D72-4FB6-9377-56109126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A799F8-C1A5-432E-8C49-A0D241DE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5AC719-F8EB-4085-B895-446CE424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757BF8-AE33-46ED-8478-2DB960CD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D94A6-E6C9-42B1-A142-6CED0180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FF60CB-427E-43CC-8A51-2D38AF36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81DB-4E14-4228-8110-5B8D42BE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3EA089-6FBA-4FB8-A496-8D13774C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BA712A-EC72-4752-82EC-606677A5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F00CF-8F37-4DE3-AEC0-4DD34516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60C5C0-C516-4DA7-89D8-EB1BE4D3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D89952-0550-4F77-B741-AC1ED279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9DA7DD-2335-44BF-8606-4089077D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0547A-769A-4AE7-9EE3-08B1172D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F1EE0-15CB-4BE2-BD82-FBF09D09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F6C587-3550-4DEF-86D0-4577E06D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C19D0-2C43-49CE-A274-E2E85DDB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E113-3683-4F2C-ACCF-2335528C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64CA3B-87B8-41DB-82C7-BEAE6E73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5A0782-9ED2-47B6-BC08-E66A8CFB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35369-0835-4AB0-88B6-D25DD764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180D87-A6D6-4368-B26C-C86A49F7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D1BE31-31BA-4E5C-8999-4A6C5716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359237-4835-41AD-A818-2DF11245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D620D-BD76-47DB-B349-36398A7A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D2E45C-59E6-4110-B74D-345AC4B8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D5F7F5-B395-46B4-99FB-B604407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1675D-1926-44EB-AF36-F87754D2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726D0-F3B3-428B-B920-488DEA27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55FB40-3674-41AE-B1D1-763895CE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AF0D1-1E5B-4799-90B2-8389D8BE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849C7B-61AB-4F5A-9DC8-924B2B8B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4B978-C463-471F-BC57-BD2910E7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41B2-47BF-4982-AB9F-966F432A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A5E86-3859-4CE1-B442-6CC43712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5A94-F58B-45E0-910E-1520E075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50B-3E77-4AFC-BACF-A7ECBADF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A873-A771-4A10-9BDB-6D23967A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8ABA0-19A2-4CDF-A50D-917EACEF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BD73-AF91-464D-AEAD-F5C6A7CE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0EBE-B613-41F5-AE74-74080E1A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9934-8ECB-4F40-968D-C1353E43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EA62-D376-4124-83FF-F448BEDD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A6312-3C52-4732-8775-C953A786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34C27-ED68-4394-AE4C-5B5F83E1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2C807-BB33-426B-B0F4-BB04E780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5FC85-FB32-4BEB-A7CB-55D7E5FD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EF5-5291-4774-A212-AEA09061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CFC9F-901F-4B0B-A61A-49302678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E71AD-6A8F-4511-BA4B-0406FC53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E3D39-ABD3-436F-BB12-E6F20DB5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787B7-33BE-49DC-8D09-37469B1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244CC-D457-4317-8A7C-68CD6DE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91C3-4B43-4FF8-9464-469F3F77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F517-91A5-4F05-9A02-765E6AF0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1C319-7F99-427F-8038-1A1D372D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1B8A9-887A-4F50-842F-B57A1FE6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01A81-C8A0-4A2A-86E7-E383F7C1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D83-871F-4C0E-8FC2-AF6D2E6B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9A94F-A88D-4DCC-9015-73A9591E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CA359-41B2-4B99-B62B-0589A08F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269B5-10CC-4E85-837C-157A9F03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7A229-C318-4EBB-9036-0E2EA845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3047D-D309-483A-BCD9-BA6A8F78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3FABF-1438-4A9F-AB93-64E96990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75346-6FC6-49DC-BF0D-E58F9D5A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0FACC-0A76-42A5-9B10-4AAC125A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9FCAB-6556-4535-B626-3958A377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5C1ED-820C-4430-8CA3-BA3329E5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B97-5F14-404C-BE44-B0489495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26B0-8770-4AB1-AAA5-AB694139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CA5EC-0774-47A5-AA5E-9F018916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64C37-B34F-4592-A359-9124A8C4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7EE33-3A4D-4923-9BED-FA5DE6A6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1DD9E-C683-43E4-A1E8-9AD4320A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62DAB-4B0F-45CE-AAAE-1C0AE771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27970-3E05-422F-BF75-9AD63C41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31FB4-690C-460C-9E60-998320AD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B39AC-3EF2-4CBC-99D6-1BEDE1F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B51F7-8F22-4742-B165-26EE371A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D49-0F0E-42BC-97BB-BFB8C865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0CD9-7688-42B5-8195-0C9722B6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A898A-EDB9-4805-B95F-27907632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97F9E-1009-4D2D-B783-90713E1B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00F8E-A4EC-45EC-98B0-1F3CD5D7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7C36A-76A9-4885-A1DE-66BE2F0A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1F932-04E5-4A07-AA28-C7CF4403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CDDC9-3921-42D7-AFF5-0A6B857C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D8209-807C-4814-896E-AF1AD143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1648B-0180-4D87-8426-8B0C6F6D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F066D-95D1-4C1E-82E6-6DDC3D4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4C9-2B6D-4C68-B4B3-E6806301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435F1-5C9D-445F-9773-A0E33564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1A494-94DD-4B0A-A708-57DF2702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711D6-88E9-49D2-A991-10BC0E98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46932-8F43-4E24-91D3-9EC5D854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654A0-497D-4E6A-B593-36408672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08D6C-39FB-4AE3-921D-8905AB08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AA407-54DA-4401-A084-B9496A7E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630C4-C1E6-40FE-80DF-A65A51E9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F5A18-5EBC-46FB-9C6E-2998BC1F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EFEBC-8E68-4B57-8064-1F3ED6CB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270-92A9-4932-9EE6-C4AAB650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6E03F-D4CF-4671-8E94-13C8808A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05DBD-6217-42B9-AEEF-077C690F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BAE3D-629A-4AD9-8C10-AD801B5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F0739-7C0A-4BCF-9886-58498FA0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1EC92-5FCB-477C-A042-1F678C01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CA33E-CB8D-4329-A9D2-D7E5840D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30501-3A5D-4493-B82C-30A39BC6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0A4D2-2DDE-4B48-8508-DF932254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291F2-9E98-40F6-82CF-8FA81EA8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B468B-63AB-49C9-ABB4-BD416253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1698-9EE6-4198-954E-C19D1163BA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7311-A934-4C34-B261-B9518A73C6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361F-D901-41F8-AFA4-10A288CECF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9AD4-F556-4764-B96F-5FDA2AA62B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944A-B9C1-4359-8915-21ACCED31D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B2C6-9789-40B1-B95C-1E6D446159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FD39-09C4-4B38-A87E-90DA0C90B3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1D4F-D32D-4A32-8993-01485AC551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5E81-0482-490B-9D7E-151A1A546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2657-5D9F-4F7A-95D6-DDE25C51B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516D-9B55-44C4-9A36-7DC253462F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C72B-7B6C-4614-B1C4-2F30BE403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E3EB-F445-44F3-B6EC-B43F377474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793E-400B-4F83-8926-99F89EB1B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9499-72E1-49E6-B749-A3B78B6864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F622-332F-460C-B8DE-5B85BF7B2F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1661-B035-44C6-BFB8-F41088AE2B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E770-C174-42E4-8B4E-2428549139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BEB8-918F-40FD-9545-66CFC45F34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8EE5-C980-4C01-AEE1-B1D666EB34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5BA2-086B-483E-854D-3729F2F3D6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3B1D-40D8-4E08-9552-CF236AACB8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6020-293E-4001-A6E8-E680BB61F4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DB43-266B-489D-A2F7-68D0480C27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A7ED-2D18-48D8-A89B-C7766474A1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0DCD-98FF-40F9-9776-AF43060010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DFEA-0D4C-444C-97BA-415F42F150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61B8-8DA8-4643-A06D-2A39BC7927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1E57-93C6-4B0C-95B1-FAC560B29A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C537-AE31-4F25-9462-4E12523E5B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5254-9DD5-43FE-AFA5-6A3F4AE17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5E75-A10F-4C7A-83D4-7A51BCE3E8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DD10-B5AC-4E19-AC85-71D733188B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D3BA-7FF2-4AAE-83DB-6D4DCF4E3C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EA4B-7BAF-47AF-8E0E-B4601D5152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14C8-37C4-455E-BAC5-94B9F4D7FD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8AA3-95F0-4075-AFAF-A5E6BAAB59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7F69-1D1D-4BDD-BD6D-06DBD526A0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C251-57BE-49E3-81CF-27D018AD1A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F49C-BA16-4B50-88CF-5854133D6D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95600" y="3162240"/>
            <a:ext cx="3952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52360" y="704880"/>
            <a:ext cx="8639280" cy="5819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116000" y="1969920"/>
            <a:ext cx="1008000" cy="1890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43080" y="1628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03640" y="1954080"/>
            <a:ext cx="2305080" cy="17622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167440" y="16128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516720" y="1906560"/>
            <a:ext cx="1295280" cy="18907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8101080" y="16383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332000" y="5200560"/>
            <a:ext cx="647640" cy="3160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1557360" y="4923000"/>
            <a:ext cx="144360" cy="255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332000" y="6012000"/>
            <a:ext cx="647640" cy="3157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547640" y="219708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3924360" y="52531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492360" y="4394160"/>
            <a:ext cx="287640" cy="13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3564000" y="6021360"/>
            <a:ext cx="647640" cy="2556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780000" y="5661000"/>
            <a:ext cx="144360" cy="277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5715000" y="5200560"/>
            <a:ext cx="647640" cy="3160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5940360" y="4923000"/>
            <a:ext cx="144360" cy="2556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5651640" y="6021360"/>
            <a:ext cx="647640" cy="3160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7885080" y="5262480"/>
            <a:ext cx="646200" cy="2556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7812000" y="4403880"/>
            <a:ext cx="287280" cy="1332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7883640" y="6031080"/>
            <a:ext cx="647640" cy="255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8099280" y="5670720"/>
            <a:ext cx="1447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组合 59412"/>
          <p:cNvGrpSpPr/>
          <p:nvPr/>
        </p:nvGrpSpPr>
        <p:grpSpPr>
          <a:xfrm>
            <a:off x="250920" y="2143080"/>
            <a:ext cx="8636040" cy="2770200"/>
            <a:chOff x="250920" y="2143080"/>
            <a:chExt cx="8636040" cy="2770200"/>
          </a:xfrm>
        </p:grpSpPr>
        <p:pic>
          <p:nvPicPr>
            <p:cNvPr id="945" name="图片 59410" descr=""/>
            <p:cNvPicPr/>
            <p:nvPr/>
          </p:nvPicPr>
          <p:blipFill>
            <a:blip r:embed="rId1"/>
            <a:stretch/>
          </p:blipFill>
          <p:spPr>
            <a:xfrm>
              <a:off x="257040" y="2143080"/>
              <a:ext cx="862992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图片 59411" descr=""/>
            <p:cNvPicPr/>
            <p:nvPr/>
          </p:nvPicPr>
          <p:blipFill>
            <a:blip r:embed="rId2"/>
            <a:stretch/>
          </p:blipFill>
          <p:spPr>
            <a:xfrm>
              <a:off x="250920" y="4465800"/>
              <a:ext cx="2808360" cy="44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2987640" y="285264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6084720" y="443700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6877080" y="2774880"/>
            <a:ext cx="2016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组合 58375"/>
          <p:cNvGrpSpPr/>
          <p:nvPr/>
        </p:nvGrpSpPr>
        <p:grpSpPr>
          <a:xfrm>
            <a:off x="214200" y="1197000"/>
            <a:ext cx="8715600" cy="4379760"/>
            <a:chOff x="214200" y="1197000"/>
            <a:chExt cx="8715600" cy="4379760"/>
          </a:xfrm>
        </p:grpSpPr>
        <p:pic>
          <p:nvPicPr>
            <p:cNvPr id="952" name="图片 58373" descr=""/>
            <p:cNvPicPr/>
            <p:nvPr/>
          </p:nvPicPr>
          <p:blipFill>
            <a:blip r:embed="rId1"/>
            <a:stretch/>
          </p:blipFill>
          <p:spPr>
            <a:xfrm>
              <a:off x="214200" y="1281240"/>
              <a:ext cx="8715600" cy="42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图片 58374" descr=""/>
            <p:cNvPicPr/>
            <p:nvPr/>
          </p:nvPicPr>
          <p:blipFill>
            <a:blip r:embed="rId2"/>
            <a:stretch/>
          </p:blipFill>
          <p:spPr>
            <a:xfrm>
              <a:off x="5003640" y="1197000"/>
              <a:ext cx="1847880" cy="44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1870200" y="2070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2925720" y="206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1860480" y="2502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2916360" y="2492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1870200" y="29192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8"/>
          <a:stretch/>
        </p:blipFill>
        <p:spPr>
          <a:xfrm>
            <a:off x="2925720" y="29098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9"/>
          <a:stretch/>
        </p:blipFill>
        <p:spPr>
          <a:xfrm>
            <a:off x="5738760" y="2070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0"/>
          <a:stretch/>
        </p:blipFill>
        <p:spPr>
          <a:xfrm>
            <a:off x="6794640" y="2060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1"/>
          <a:stretch/>
        </p:blipFill>
        <p:spPr>
          <a:xfrm>
            <a:off x="5729400" y="2502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2"/>
          <a:stretch/>
        </p:blipFill>
        <p:spPr>
          <a:xfrm>
            <a:off x="6784920" y="2492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3"/>
          <a:stretch/>
        </p:blipFill>
        <p:spPr>
          <a:xfrm>
            <a:off x="5738760" y="29192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4"/>
          <a:stretch/>
        </p:blipFill>
        <p:spPr>
          <a:xfrm>
            <a:off x="6794640" y="29098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5"/>
          <a:stretch/>
        </p:blipFill>
        <p:spPr>
          <a:xfrm>
            <a:off x="611280" y="4797360"/>
            <a:ext cx="3024000" cy="255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6"/>
          <a:stretch/>
        </p:blipFill>
        <p:spPr>
          <a:xfrm>
            <a:off x="611280" y="5094360"/>
            <a:ext cx="3024000" cy="2556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7"/>
          <a:stretch/>
        </p:blipFill>
        <p:spPr>
          <a:xfrm>
            <a:off x="8459640" y="252720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8"/>
          <a:stretch/>
        </p:blipFill>
        <p:spPr>
          <a:xfrm>
            <a:off x="8450280" y="29592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9"/>
          <a:stretch/>
        </p:blipFill>
        <p:spPr>
          <a:xfrm>
            <a:off x="8459640" y="337644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0"/>
          <a:stretch/>
        </p:blipFill>
        <p:spPr>
          <a:xfrm>
            <a:off x="8440560" y="371628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1"/>
          <a:stretch/>
        </p:blipFill>
        <p:spPr>
          <a:xfrm>
            <a:off x="8431200" y="4097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2"/>
          <a:stretch/>
        </p:blipFill>
        <p:spPr>
          <a:xfrm>
            <a:off x="8440560" y="451476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3"/>
          <a:stretch/>
        </p:blipFill>
        <p:spPr>
          <a:xfrm>
            <a:off x="8388360" y="48690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24"/>
          <a:stretch/>
        </p:blipFill>
        <p:spPr>
          <a:xfrm>
            <a:off x="8488440" y="5229360"/>
            <a:ext cx="2872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7:58:4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